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9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761C-05A0-40A3-8472-334FF21FE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7789-7B7C-4ACB-8FF7-963FE05B7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8A79-EF4C-4661-BA15-D6FABF547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3094-F58B-4755-809C-A7DBA69FA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1A0C-7A7E-47C3-9792-758C527F8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3135-5491-4B46-ABA4-3BBACAF02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378D-B5E9-4047-8534-20ABB5B93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4D76-2892-42CE-B456-8A407273B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091D-237D-41C0-AD8A-5B064FDC3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F003-2A68-4BA7-A620-D094DD564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A121-85CA-4AA2-A345-777A909B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5645-9EFC-42A5-B4D9-DDCB0963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0372A-D45C-4154-A19A-A75E162EFA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nit 8 Ec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. 51 - 5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re Does Behavior Come From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r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rtain behaviors learned by individu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y sel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te sel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arm cal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rection of home sp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tilizing innate behavior to discover new information based on environmental stimuli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flame will burn you… how do you know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meone told yo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saw it happen to someo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happened to yo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ociative Learning   Habituation   Spatial Lear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ociative Lear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ssical Conditio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random stimulus triggers a respon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5" descr="http://1.bp.blogspot.com/_Q2U5uycu3Uk/Rmbew94Zc8I/AAAAAAAAAUo/Ok-oa67Qvpk/s400/pavlov.gif"/>
          <p:cNvPicPr/>
          <p:nvPr/>
        </p:nvPicPr>
        <p:blipFill>
          <a:blip r:embed="rId1"/>
          <a:stretch/>
        </p:blipFill>
        <p:spPr>
          <a:xfrm>
            <a:off x="2819520" y="2743200"/>
            <a:ext cx="312408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http://store.perspicuity.com/sections/Products/Press.sized.jpg"/>
          <p:cNvPicPr/>
          <p:nvPr/>
        </p:nvPicPr>
        <p:blipFill>
          <a:blip r:embed="rId1"/>
          <a:stretch/>
        </p:blipFill>
        <p:spPr>
          <a:xfrm>
            <a:off x="3505320" y="2819520"/>
            <a:ext cx="3352680" cy="39592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ociative Lear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erant Conditio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urposeful action (by the organism) triggers a respon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bit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ganisms exposed repeatedly to something will usually remember what to do or expe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come less sensitive to certain stimuli what have neither benefit nor c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nd will not startle yo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8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patial Lear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ing behavior as a result of knowing your environ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st location relative to food, water &amp; pred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ndmarks are used to create mental link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http://www.physiology.unimelb.edu.au/lab-molneuro/ratmaze.jpg"/>
          <p:cNvPicPr/>
          <p:nvPr/>
        </p:nvPicPr>
        <p:blipFill>
          <a:blip r:embed="rId1"/>
          <a:stretch/>
        </p:blipFill>
        <p:spPr>
          <a:xfrm>
            <a:off x="1981080" y="3124080"/>
            <a:ext cx="51498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genetic &amp; learned behaviors are influenced by the other, they are not completely independ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nking Genetics, Learning &amp; Evol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mal Foraging The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benefits of food source compared to risks of that food sour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olution favors high benefits and low risk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ividuals that obtain the best food at the lowest risk will survive best and reproduce mo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enefits Vs. Risk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 this favorabl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http://photography.nationalgeographic.com.au/staticfiles/NGS/Shared/StaticFiles/Photography/Images/POD/f/foraging-prairie-dog-517702-sw.jpg"/>
          <p:cNvPicPr/>
          <p:nvPr/>
        </p:nvPicPr>
        <p:blipFill>
          <a:blip r:embed="rId1"/>
          <a:stretch/>
        </p:blipFill>
        <p:spPr>
          <a:xfrm>
            <a:off x="1371600" y="1714680"/>
            <a:ext cx="68580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nking Genetics, Learning &amp; Evol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ing Behavi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ogamy: Single pair bond for at least 1 seas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lygam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lygyny- One male with many fem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lyandry- One female with many m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olution favors behavior optimal for the needs of offsp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Ecolog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udies interactions between organisms &amp; their environ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otic/Biot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otic/Abiot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http://www.venomous.com/snake/babyti~1.gif"/>
          <p:cNvPicPr/>
          <p:nvPr/>
        </p:nvPicPr>
        <p:blipFill>
          <a:blip r:embed="rId1"/>
          <a:stretch/>
        </p:blipFill>
        <p:spPr>
          <a:xfrm>
            <a:off x="4114800" y="2590920"/>
            <a:ext cx="49212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nking Genetics, Learning &amp; Evol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xual Sel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ually, females choose mate with best traits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 a result, males must compe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lor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ng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Armory           Siz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olution favors behavior optimal for producing the most fit offspr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nking Genetics, Learning &amp; Evol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truism = ‘Selflessness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ociated with ‘packs’ or colonies in which members undergo acts of selflessness for the benefit of their gro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rning calls: Save the group but may call attention to yoursel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 fully understood from evolutionary view, but many theories exi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cology &amp; Conser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684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recautionary Principle: “Think before you act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lications to everyday decis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cological frame: If we destroy species today, we will never know what potential good they could have in the futu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5" descr="http://blog.webosaurs.com/wp-content/uploads/2009/11/rainforest.jpg"/>
          <p:cNvPicPr/>
          <p:nvPr/>
        </p:nvPicPr>
        <p:blipFill>
          <a:blip r:embed="rId1"/>
          <a:stretch/>
        </p:blipFill>
        <p:spPr>
          <a:xfrm>
            <a:off x="2514600" y="3809880"/>
            <a:ext cx="42004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. 51: Behavi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havior: What we do, how we do it, and why we do i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thology = Behavioral Ecolo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 forms of questions to add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ximate: What causes behavior and how is it maintaine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ltimate: Why did the behavior develop through tim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5" descr="http://richardwiseman.files.wordpress.com/2009/05/question-mark3a.jpg"/>
          <p:cNvPicPr/>
          <p:nvPr/>
        </p:nvPicPr>
        <p:blipFill>
          <a:blip r:embed="rId1"/>
          <a:stretch/>
        </p:blipFill>
        <p:spPr>
          <a:xfrm>
            <a:off x="7315200" y="2209680"/>
            <a:ext cx="1547640" cy="19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re Does Behavior Come From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e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-wired for certain behavi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tic studies show most behaviors are encoded in D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llowing a parent after hatch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ying to obtain a resour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wimming after hatch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y can be altered by changes in environ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" descr="http://www.funnytheworld.com/2007/Mar/Lorenz.gif"/>
          <p:cNvPicPr/>
          <p:nvPr/>
        </p:nvPicPr>
        <p:blipFill>
          <a:blip r:embed="rId1"/>
          <a:stretch/>
        </p:blipFill>
        <p:spPr>
          <a:xfrm>
            <a:off x="6019920" y="1219320"/>
            <a:ext cx="2514600" cy="19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net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xed Action Patterns FAP: All or none unlearned behavi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iggered by a Sign Stimul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www.colorado.edu/intphys/Class/IPHY3730/image/figure1-4.jpg"/>
          <p:cNvPicPr/>
          <p:nvPr/>
        </p:nvPicPr>
        <p:blipFill>
          <a:blip r:embed="rId1"/>
          <a:stretch/>
        </p:blipFill>
        <p:spPr>
          <a:xfrm>
            <a:off x="1295280" y="3429000"/>
            <a:ext cx="5943600" cy="29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net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rinting: Innate behavior having a ‘sensitive period’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http://www.funnytheworld.com/2007/Mar/Lorenz.gif"/>
          <p:cNvPicPr/>
          <p:nvPr/>
        </p:nvPicPr>
        <p:blipFill>
          <a:blip r:embed="rId1"/>
          <a:stretch/>
        </p:blipFill>
        <p:spPr>
          <a:xfrm>
            <a:off x="4876920" y="3048120"/>
            <a:ext cx="3598920" cy="2819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http://www.familycourtchronicles.com/philosophy/attachment/geese-imprinting.jpg"/>
          <p:cNvPicPr/>
          <p:nvPr/>
        </p:nvPicPr>
        <p:blipFill>
          <a:blip r:embed="rId2"/>
          <a:stretch/>
        </p:blipFill>
        <p:spPr>
          <a:xfrm>
            <a:off x="457200" y="3276720"/>
            <a:ext cx="38862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net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inesis: Moving in response to a stimulu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xis: Directed movement response, to or away from stimulu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http://www.biologycorner.com/resources/pillbug_behaviorchamber.gif"/>
          <p:cNvPicPr/>
          <p:nvPr/>
        </p:nvPicPr>
        <p:blipFill>
          <a:blip r:embed="rId1"/>
          <a:stretch/>
        </p:blipFill>
        <p:spPr>
          <a:xfrm>
            <a:off x="3048120" y="1828800"/>
            <a:ext cx="2152440" cy="1724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http://exiledonline.com/wp-content/uploads/2009/09/cheetah_071.jpg"/>
          <p:cNvPicPr/>
          <p:nvPr/>
        </p:nvPicPr>
        <p:blipFill>
          <a:blip r:embed="rId2"/>
          <a:stretch/>
        </p:blipFill>
        <p:spPr>
          <a:xfrm>
            <a:off x="5181480" y="4419720"/>
            <a:ext cx="327672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net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g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gnaling: Causes changes in others’ behavi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unication: Response, transmission or reception of signa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emical: Pherom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uditory: Bird ca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en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6T00:16:29Z</dcterms:created>
  <dc:creator>leanne</dc:creator>
  <dc:description/>
  <dc:language>en-US</dc:language>
  <cp:lastModifiedBy>leanne</cp:lastModifiedBy>
  <dcterms:modified xsi:type="dcterms:W3CDTF">2010-04-07T01:19:27Z</dcterms:modified>
  <cp:revision>13</cp:revision>
  <dc:subject/>
  <dc:title>Unit 8 Ecology</dc:title>
</cp:coreProperties>
</file>